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5.png" ContentType="image/png"/>
  <Override PartName="/ppt/media/image6.gif" ContentType="image/gif"/>
  <Override PartName="/ppt/media/image10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9.wmf" ContentType="image/x-wmf"/>
  <Override PartName="/ppt/media/image14.png" ContentType="image/png"/>
  <Override PartName="/ppt/media/image1.jpeg" ContentType="image/jpeg"/>
  <Override PartName="/ppt/media/image7.png" ContentType="image/png"/>
  <Override PartName="/ppt/media/image8.gif" ContentType="image/gif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31A4-9DEF-4164-A657-59A60695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1562-E32E-4E3F-8177-F08247DC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C4E9-83E0-4AA3-9C9B-253117A5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EF9F-03A0-44AD-AAB9-4925D218D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C24B-F24B-44A4-8E62-D3857CE6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0D04-86E9-41E6-94C7-1C87DC41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8935-2BC7-4B99-9429-1519C6A5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E52C-928A-4DB4-AE7B-D78EBD91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B7D0-E7FC-4CAD-B777-E7B1530F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31E1-5070-47FA-9129-9D49520E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664B-4763-420A-BA9B-A578E155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F05A-8995-4DD7-BB94-42A54792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3F47-02BE-44C0-9309-A4A7EA9DF69B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LITICS IN THE GILDED AG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Picture 2" descr="BossTweed"/>
          <p:cNvPicPr/>
          <p:nvPr/>
        </p:nvPicPr>
        <p:blipFill>
          <a:blip r:embed="rId1"/>
          <a:stretch/>
        </p:blipFill>
        <p:spPr>
          <a:xfrm>
            <a:off x="609480" y="1447920"/>
            <a:ext cx="2833920" cy="38862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3733920" y="838080"/>
            <a:ext cx="480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William Marcy Tw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known as </a:t>
            </a:r>
            <a:r>
              <a:rPr b="0" lang="ja-JP" sz="28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Boss</a:t>
            </a:r>
            <a:r>
              <a:rPr b="0" lang="ja-JP" sz="2800" spc="-1" strike="noStrike">
                <a:solidFill>
                  <a:srgbClr val="cc0000"/>
                </a:solidFill>
                <a:latin typeface="Comic Sans MS"/>
              </a:rPr>
              <a:t>”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Tw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1823- 187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3962520" y="2438280"/>
            <a:ext cx="4876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oss Tweed was an American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politicia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ho, with his "Tweed ring" cronies, systematically plundered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New York Cit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sums estimated at between $30 million and $200 mill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that would be worth between $365 million and $2.4 billion toda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Tahoma"/>
              </a:rPr>
              <a:t>Fraud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457200" y="91440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y 1870, the Tweed ring was able to milk the city through such devices as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faked leas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padded bills, false vouchers, unnecessary repairs, and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overpriced good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services bought from suppliers controlled by the ring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28600" y="2514600"/>
            <a:ext cx="8610480" cy="411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Examples of the flagrant abuse of the public</a:t>
            </a:r>
            <a:r>
              <a:rPr b="0" lang="ja-JP" sz="2400" spc="-1" strike="noStrike">
                <a:solidFill>
                  <a:srgbClr val="003366"/>
                </a:solidFill>
                <a:latin typeface="Comic Sans MS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s money we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1)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40 old chairs and three tables: $179,792.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(about $2 million toda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2)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Comic Sans MS"/>
              </a:rPr>
              <a:t>Repairing fixtures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: $1,149,874.50 (about $14 million toda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3)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 plasterer's wages during a nine month period: $2,870,464.06 (about $34 million toda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4)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30 months of advertising paid to a Tweed-controlled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Comic Sans MS"/>
              </a:rPr>
              <a:t>printing company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: $7,168,212.23 (about $87 million toda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2" descr="NastPortrait"/>
          <p:cNvPicPr/>
          <p:nvPr/>
        </p:nvPicPr>
        <p:blipFill>
          <a:blip r:embed="rId1"/>
          <a:stretch/>
        </p:blipFill>
        <p:spPr>
          <a:xfrm>
            <a:off x="838080" y="2209680"/>
            <a:ext cx="2190960" cy="3638520"/>
          </a:xfrm>
          <a:prstGeom prst="rect">
            <a:avLst/>
          </a:prstGeom>
          <a:ln w="38160">
            <a:solidFill>
              <a:srgbClr val="00cc66"/>
            </a:solidFill>
            <a:miter/>
          </a:ln>
        </p:spPr>
      </p:pic>
      <p:sp>
        <p:nvSpPr>
          <p:cNvPr id="96" name="Text Box 3"/>
          <p:cNvSpPr/>
          <p:nvPr/>
        </p:nvSpPr>
        <p:spPr>
          <a:xfrm>
            <a:off x="3352680" y="457200"/>
            <a:ext cx="57913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Thomas Na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1840- 190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merican cartoonist, best known for his attack on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the political machin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William M. Tweed in New York City in the 1870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429000" y="3276720"/>
            <a:ext cx="5486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ny of Nast's most effective cartoons were virulent attacks on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Tammany Hal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led by "Boss" Tweed. His cartoons were probably one of the chief factors in the machine's downfall. Nast's caricature of the fleeing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political bos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ed to Tweed's identification and arre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2" descr="NastBrains"/>
          <p:cNvPicPr/>
          <p:nvPr/>
        </p:nvPicPr>
        <p:blipFill>
          <a:blip r:embed="rId1"/>
          <a:stretch/>
        </p:blipFill>
        <p:spPr>
          <a:xfrm>
            <a:off x="2590920" y="380880"/>
            <a:ext cx="3906720" cy="411480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sp>
        <p:nvSpPr>
          <p:cNvPr id="101" name="Text Box 4"/>
          <p:cNvSpPr/>
          <p:nvPr/>
        </p:nvSpPr>
        <p:spPr>
          <a:xfrm>
            <a:off x="2666880" y="4876920"/>
            <a:ext cx="3733920" cy="1557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One of Nast</a:t>
            </a:r>
            <a:r>
              <a:rPr b="0" lang="ja-JP" sz="2400" spc="-1" strike="noStrike">
                <a:solidFill>
                  <a:srgbClr val="003366"/>
                </a:solidFill>
                <a:latin typeface="Comic Sans MS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s most famous cartoons speaks for itself on the brains of Tammany H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609480" y="5335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80880" y="609480"/>
            <a:ext cx="8305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The </a:t>
            </a:r>
            <a:r>
              <a:rPr b="1" lang="en-US" sz="6000" spc="-1" strike="noStrike" u="sng">
                <a:solidFill>
                  <a:srgbClr val="ff0000"/>
                </a:solidFill>
                <a:uFillTx/>
                <a:latin typeface="Comic Sans MS"/>
              </a:rPr>
              <a:t>Tweed Ring</a:t>
            </a: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 was swept from power by angry voters. The young artist, </a:t>
            </a:r>
            <a:r>
              <a:rPr b="1" lang="en-US" sz="6000" spc="-1" strike="noStrike" u="sng">
                <a:solidFill>
                  <a:srgbClr val="ff0000"/>
                </a:solidFill>
                <a:uFillTx/>
                <a:latin typeface="Comic Sans MS"/>
              </a:rPr>
              <a:t>Thomas Nast</a:t>
            </a: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, was given the major credit</a:t>
            </a:r>
            <a:r>
              <a:rPr b="1" lang="en-US" sz="60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4114800" y="457200"/>
            <a:ext cx="48006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All of the Tammany Ring were convicted and sent to prison, but Tweed escaped to Spain.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He was later recognized, thanks to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a Nast carto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The cartoon was one Nast drew earlier showing Tweed  in prison garb apprehending two small culprits while his crimes went unpunished.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he Spanish police interpreted the cartoon to mean that Tweed was wanted for kidnappin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the word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"REWARD" caught their ey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Tweed was extradited to the United States and reimprison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4" descr="TweedReward"/>
          <p:cNvPicPr/>
          <p:nvPr/>
        </p:nvPicPr>
        <p:blipFill>
          <a:blip r:embed="rId1"/>
          <a:stretch/>
        </p:blipFill>
        <p:spPr>
          <a:xfrm>
            <a:off x="304920" y="914400"/>
            <a:ext cx="3585960" cy="502920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457"/>
                </a:solidFill>
                <a:latin typeface="Tahoma"/>
              </a:rPr>
              <a:t>The Gilded Age is a period in U.S. History between 1870 to around 1900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e457"/>
                </a:solidFill>
                <a:latin typeface="Tahoma"/>
              </a:rPr>
              <a:t>What does Gilded Mean 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o cover with or as if with a thin layer of gold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o give an often deceptively attractive or improved appearance to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POLITICAL MACHIN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534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ring late 1800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, many cities run by a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Political machi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was an organized group, headed by a city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bos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that controlled activities of a political party in a c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fered services to voters &amp; businesses in exchange for political or financial suppor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4" descr="MCj03013360000[1]"/>
          <p:cNvPicPr/>
          <p:nvPr/>
        </p:nvPicPr>
        <p:blipFill>
          <a:blip r:embed="rId1"/>
          <a:stretch/>
        </p:blipFill>
        <p:spPr>
          <a:xfrm>
            <a:off x="6019920" y="5486400"/>
            <a:ext cx="2133360" cy="1130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MCj03013640000[1]"/>
          <p:cNvPicPr/>
          <p:nvPr/>
        </p:nvPicPr>
        <p:blipFill>
          <a:blip r:embed="rId2"/>
          <a:stretch/>
        </p:blipFill>
        <p:spPr>
          <a:xfrm>
            <a:off x="457200" y="5181480"/>
            <a:ext cx="2209680" cy="1444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MCj03013160000[1]"/>
          <p:cNvPicPr/>
          <p:nvPr/>
        </p:nvPicPr>
        <p:blipFill>
          <a:blip r:embed="rId3"/>
          <a:stretch/>
        </p:blipFill>
        <p:spPr>
          <a:xfrm>
            <a:off x="3733920" y="5045040"/>
            <a:ext cx="12888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ny Political Bosses were Corrupt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768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768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768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768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GRAF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33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oss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ot rich through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GRAF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the illegal use of political influence for personal ga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win elections, some filled the list of eligible voters w/names of dogs, children, &amp; the de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4" descr="j0285316"/>
          <p:cNvPicPr/>
          <p:nvPr/>
        </p:nvPicPr>
        <p:blipFill>
          <a:blip r:embed="rId1"/>
          <a:stretch/>
        </p:blipFill>
        <p:spPr>
          <a:xfrm>
            <a:off x="304920" y="5029200"/>
            <a:ext cx="1828800" cy="1576440"/>
          </a:xfrm>
          <a:prstGeom prst="rect">
            <a:avLst/>
          </a:prstGeom>
          <a:ln w="0">
            <a:noFill/>
          </a:ln>
        </p:spPr>
      </p:pic>
      <p:pic>
        <p:nvPicPr>
          <p:cNvPr id="70" name="775C5345.WAV" descr=""/>
          <p:cNvPicPr/>
          <p:nvPr/>
        </p:nvPicPr>
        <p:blipFill>
          <a:blip r:embed="rId2"/>
          <a:stretch/>
        </p:blipFill>
        <p:spPr>
          <a:xfrm>
            <a:off x="304920" y="4648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j0283630"/>
          <p:cNvPicPr/>
          <p:nvPr/>
        </p:nvPicPr>
        <p:blipFill>
          <a:blip r:embed="rId3"/>
          <a:stretch/>
        </p:blipFill>
        <p:spPr>
          <a:xfrm>
            <a:off x="7391520" y="5105520"/>
            <a:ext cx="1266840" cy="1390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MCj01497050000[1]"/>
          <p:cNvPicPr/>
          <p:nvPr/>
        </p:nvPicPr>
        <p:blipFill>
          <a:blip r:embed="rId4"/>
          <a:stretch/>
        </p:blipFill>
        <p:spPr>
          <a:xfrm>
            <a:off x="3429000" y="4419720"/>
            <a:ext cx="33861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SS TWEED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&amp; TAMMANY HAL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534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iam Marcy Tweed, a.k.a. 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Bos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weed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one of the most powerful political bos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came head of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mmany Hal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New York City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most powerful Democratic mach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4" descr="h5tweed"/>
          <p:cNvPicPr/>
          <p:nvPr/>
        </p:nvPicPr>
        <p:blipFill>
          <a:blip r:embed="rId1"/>
          <a:stretch/>
        </p:blipFill>
        <p:spPr>
          <a:xfrm>
            <a:off x="3124080" y="4343400"/>
            <a:ext cx="210528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h5nast2"/>
          <p:cNvPicPr/>
          <p:nvPr/>
        </p:nvPicPr>
        <p:blipFill>
          <a:blip r:embed="rId2"/>
          <a:stretch/>
        </p:blipFill>
        <p:spPr>
          <a:xfrm>
            <a:off x="6019920" y="4343400"/>
            <a:ext cx="2819160" cy="251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8195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Tahoma"/>
              </a:rPr>
              <a:t>Thomas Nast Brings Down </a:t>
            </a:r>
            <a:r>
              <a:rPr b="1" lang="en-US" sz="6000" spc="-1" strike="noStrike" u="sng">
                <a:solidFill>
                  <a:srgbClr val="00cc66"/>
                </a:solidFill>
                <a:uFillTx/>
                <a:latin typeface="Tahoma"/>
              </a:rPr>
              <a:t>Boss Tweed</a:t>
            </a:r>
            <a:r>
              <a:rPr b="1" lang="en-US" sz="6000" spc="-1" strike="noStrike">
                <a:solidFill>
                  <a:srgbClr val="cc0000"/>
                </a:solidFill>
                <a:latin typeface="Tahoma"/>
              </a:rPr>
              <a:t> and Tammany Hall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Tahoma"/>
              </a:rPr>
              <a:t>The Power of the Political Carto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3T14:07:21Z</dcterms:created>
  <dc:creator>Global Access</dc:creator>
  <dc:description/>
  <dc:language>en-US</dc:language>
  <cp:lastModifiedBy>nate</cp:lastModifiedBy>
  <dcterms:modified xsi:type="dcterms:W3CDTF">2014-03-27T11:58:39Z</dcterms:modified>
  <cp:revision>19</cp:revision>
  <dc:subject/>
  <dc:title>Thomas Nast Brings Down Boss Tweed and Tammany Hall</dc:title>
</cp:coreProperties>
</file>